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E5B-C27B-4AEC-B8BE-5C4729C7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29C-7915-43DD-BBCB-C5CC733E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582-3063-48F5-BB71-27E87E2C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25D-6082-4BF3-877E-D0A45477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AAC-97B2-4BD5-873B-3F846A0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3D0-12A8-4335-B9EA-99FFC9C4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451-4D9C-4117-8ACA-D76E6CAC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CB7-D453-402B-BD16-4D9AD051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8AC-1D92-4FD8-A25D-961614A3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82A-EC71-4EE9-BE1E-999B4EB6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BDB-36E0-4D37-BB94-2D3BBC88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C64-3A5F-4F99-9464-14613AED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, Ideology, Socialization an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666880" y="838080"/>
            <a:ext cx="3733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olitics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Who we are, How we Vote and How’d we get there?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ulture Wars??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v. Orthodox ---loade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ve- Move forward, expand rights, be more tolerant and accepting of alternative life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ated by Urban, highly educated, high income; some have weak religious affiliations, secular humanism, strong amongst Methodists, Episcopalians, Low church atten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dox- claim increased Tolerance has led to claims of moral relativism and a decline in mor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, maintain values, dominated by rural, often less educated (not always), more common amongst fundamental and evangelical churches.  High church atten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6324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held beliefs leave little room for com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olitical Ideology- How do we reach the goals of our “political culture”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652140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773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Political Socialization- The computer determines the Party of your choice is….(Today, Databases are collected of everything you can think of, trying to narrow down how a person will likely vote)</a:t>
            </a:r>
            <a:br>
              <a:rPr sz="4000"/>
            </a:b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s (Always Evolv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- Direct and the most substa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cation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xed. Post Graduate Democrat, College Graduate- Republica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ome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coming More m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higher incomes were associated with Republican vo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b type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istorically, white collar Republican, Blue Collar (union) Democrat, today few Blue Collar jobs and many lower paid white collar job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graphy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lue v. Red.. The Coasts v. the S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ng States, the Rust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tends to be liberal, rural tends to be conservative (see populist).  Suburban is the swing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igion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rrelation w/Frequency of Church Atten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lics vote Democrat, Protestants vote Republican (cleavage- Abortion issue, other social conservative issu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wish people tend to vote Democr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ce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specially High amongst African American (Pres. Bush received less than 10% of African American Vote in the 2000 Election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nicity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ispanics, tend to vote Democratic, except Cubans who vote Republican (see Fla. 2000 Presidential ele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5800" y="62485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6095880"/>
            <a:ext cx="9144000" cy="58068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d you know that if you drive a Mercury there is a overwhelming likelihood that you vote Republi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eft, Right and Somewhere in between (% in 1994)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liefs surrounding these terms have historically chang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52480" y="1828800"/>
          <a:ext cx="685800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2667240"/>
                <a:gridCol w="259056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vor Govt.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ainst Govt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issez-fai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vor Govt Intervention on social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puli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ink William Jennings Bryan, want prayer in school and Govt to help the worker), e.g. Reagan Democr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e Conservativ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avorable to drug laws, prayer in school etc, little the economy run as it does..)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ainst Govt Intervention on social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e Liber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cial safety net, free speech, no religion in school, right to choose. Govt is necessary to intervene in the economy to provide equality of Opporutunity-ie affirmative a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rtaria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ovt. only to ensure safety, ie. Police, Firefighters, Military,  No Drug laws, Privatize education and other governmental institutions, Few, if any business regulatio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22"/>
          <p:cNvSpPr/>
          <p:nvPr/>
        </p:nvSpPr>
        <p:spPr>
          <a:xfrm>
            <a:off x="533412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0" y="403848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:Govt. intervention moral issues and police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onservatism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ally- Government should not interfere in the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ly- Government should interfere to ensure morality, crime pre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 popular amongst older, Midwest, White financially better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Populism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Govt. Intervention to ensure equal opportunity, Break Monopo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Govt. Intervention on Soci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r Prayer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Polic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, popular in Midwest, Farming communities, Union 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iberalism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. Should interfere to ensure a proper working capitalist economy (eg. Breaking monopoly’s), ensure equal opportunity (affirmative action), progressiv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. should interfere to ensure rights…eg. Advance Civil Rights (see Progressives), Criminal Defendant Rights, stay out of M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vor secular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amongst well educated, urban, young, common in northeast and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ibertarianism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- Little to no intervention in th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. is solely for protection, fire, police and military.  Little to know govt. intervention outside of thos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- Little to no intervention on social issues, except to expand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, if any limits on person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rug laws, No prostitution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amongst well edu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Who Participates and Why?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- The Electorate- Voting Age who are eligible to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ger the “office” up for election the bigger the tur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out in America is LOWWWWW- Last Presidential Election- 50 yr record- 60% v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ercentage of Americans are not regis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Who does and doesn’t vot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people Vote- Highest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derly programs-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il of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er people don’t vote- Lowest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Income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Educate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s vote in highest %, Hispanics lo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ly- Jews vote in highest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us involvement correlates w/high %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s Vote highest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rrelation- trust/distrust govt and v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Elections be different if more voted? doubt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olitical Culture-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1f497d"/>
                </a:solidFill>
                <a:latin typeface="Arial"/>
              </a:rPr>
              <a:t>A distinctive and patterned way of thinking about how political and economic life</a:t>
            </a:r>
            <a:br>
              <a:rPr sz="4000"/>
            </a:br>
            <a:r>
              <a:rPr b="0" i="1" lang="en-US" sz="4000" spc="-1" strike="noStrike">
                <a:solidFill>
                  <a:srgbClr val="1f497d"/>
                </a:solidFill>
                <a:latin typeface="Arial"/>
              </a:rPr>
              <a:t>ought to be carried out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 We as a country believe…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Bring out the Vote and Get Fraud, Harden the Rules and exclude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son Democrats- Increased Voter Participation- Growing Popu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1860 only one state (S. Carolina) did not select their Electoral Votes by popular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- Record Turnout (sometimes higher than the population, unless you include the cemete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% Voter Fraud- Not a secret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Parties Strong- Strong Patronage- Political Machines, (Boss Tw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People could vote (Blacks, Women, Yo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dy- Proposed by Progre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Ballot- Secret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Residency Requirements, Citizenship, Liter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elton Civil Service Act (1883) limited patro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20</a:t>
            </a:r>
            <a:r>
              <a:rPr b="0" lang="en-US" sz="4000" spc="-1" strike="noStrike" baseline="30000">
                <a:solidFill>
                  <a:srgbClr val="1f497d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 Century attempts to increase voter turnout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ts- Unco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cy Tests and Grandfather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esidenc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r Rights Act of 1965 (Civil Rights Act 1957, 19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Govt. Intervenes, supervises Election where minorities vote in % disparate with their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Voter Law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Registration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Voter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 Bal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onal Amendent- Women and 18-21 yr o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laws increased permissiveness on mail bal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Volunteers of Americ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get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ers- clearly id w/a political party, get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alists- Get involved in part for the social aspect- not particularly parti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ochial Participants- Don’t Vote but like to W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sts- Guess What?…they get involved, tend to be better educated and financially better off (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Political Parti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arty system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Elections are based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r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Majority, so little need for coalitions to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oral System and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1f497d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 Parties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long lasting influential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ublican Party (1854) combined Northern Whigs with Free Soil Party, Know Nothings, Abolition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ies have been either short in duration or incon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Duration may have an impact on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Protest Partie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pulist, American Reform Party, Issue taken up by Major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ion: Splits within the Par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ll Moose Party, Republican Party, Progressive Party (1948), State’s Rights Party (1948).  Party reunifies, some go to other par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n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ological Partie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cialist, Libertarian (may have some consequence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Iss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ight to Life Party, Green Party (recently a broader platform), Abolition Party, Free Soil Party.  Often the issue either disappears or other parties take it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ominating For Offic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ignatures- Getting on the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Nomination-If Party Con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 (N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(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nket (Ca.) Questions about its constitutionality, Voter gets all the potential candidates from both (all) parties, does not have to stick to one party-Republican Governor, Democratic Se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cus (Iow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Generally Accepted Belief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Practice our religion as we w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choose where we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choose our j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choose our sp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ise through the ranks, cross social bound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Speak our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be free of unwarranted Govt. Intr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ity of opport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ality of treatment under the 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is above the law, no one is below the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ght to 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ity R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vic Du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ligation to take part in civic aff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merica v. Rest of the World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think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willing to accept govt. interference with the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earn what you ear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Class consc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c Du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- Belief in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o Spirit…American Individu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Deferential to Authority (like you need to know t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merican “Can Do” Spirit and Economic Equality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Opportunity rather than Economic Equality is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sponsibility and individu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Reliance- Climb the ladder- “My grandparents came off the boat and they made it so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Work ethic and Capitalism (theory by German sociologist, Max Web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tan hard work and capitalism go hand in hand (not as widely accepted as at one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hose…if they 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u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y..not those cadillac driving welfare recepi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Religion and America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at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ically may have led the US to be the most religious Develope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if not 3 to 4 Great Awakenings in US history have helped shape US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igher church attendance than other developed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’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likely to vote for an athe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likely to accept the theory of evolution and more likely to be creationists ( early 2000s poll- appr. 45% firmly believe in Creationism, appr. 25% firmly believe in ev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ikely to believe that there is a God (and angel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 Church (often the claim is much more than the re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y for cleavages- variety of religious affiliations give a wide range of policies and poli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“de Tocqueville”, another opportunity for civic activity an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Efficacy and Civic Competence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understand what’s going on and therefore am I capable of making an informative decision on who to vote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effect what’s going on, in other words can I fight city h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explain the downward trend in voting over the past 60 years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Trust in Govt.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trust their own politicians but don’t trust the institutions of Gov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in Govt. has declined since 1970s (blip after 9/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for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 Scandals *Watergate*, Abscam, Iran-Contra, Check Scandal, Monicagate, Abramoff-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Oppositional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nam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Govt. Intervention- High Crime Rates, Povert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A More Tolerant Society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Past 60 years America has become a more tolerant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vil Rights Movement, - Race, Gender, Disabilities, Homosexual.  Intervention by the State to end Discri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s are more accepting of a multitude of lifestyles and a variety of religions and ethni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 have played a dominant role- (Equal Protection Clause, First Amendment interpre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6:03:54Z</dcterms:created>
  <dc:creator>Darien Public Schools</dc:creator>
  <dc:description/>
  <dc:language>en-US</dc:language>
  <cp:lastModifiedBy>Administrator</cp:lastModifiedBy>
  <dcterms:modified xsi:type="dcterms:W3CDTF">2011-02-15T12:40:33Z</dcterms:modified>
  <cp:revision>53</cp:revision>
  <dc:subject/>
  <dc:title>Who we are, How we Vote and How’d we get there?</dc:title>
</cp:coreProperties>
</file>